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F7D-AB2F-4FCF-B043-BA0E5140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B36-5E30-48D5-99A7-17C4E586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41C55-DADA-48F2-A0EB-FC046C6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143D0-F6DE-4E1C-9156-A82E2B81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5C97-64E9-4292-BEE2-858593E6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06E2C-36B0-4369-9769-B425693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4B97-CB3E-45E6-8FF2-BFF60C7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A1176-3CBB-4A6A-BF9B-BB93605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F6F5E-E9DC-4C8F-A4EF-D6666F9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AA3F-C5E9-4B21-948A-D22774BF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02F0B-5698-42EB-A106-845344BB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B75D4-0AFC-42F0-ADD1-A9F72574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C31-63D9-46C0-A46A-BFBB7DA6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A063C-C1B1-4F9E-9A32-B0435104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E6B7-5B77-491A-877B-25DE1C27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81496-4D8E-4C5F-9F34-13603ADD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DBD0E-75F5-4C40-9A54-AD86CCD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6236B-D3B1-4CA8-8603-48A22019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619BF-561A-493C-A4B8-2BD96C6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979F4-1AA6-4F48-A414-5657288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F74E1-8CB6-416E-9E44-C560022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5FDA9-1C3E-41E0-A08A-CDDA9531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9DA00-74C5-4B27-A9F1-536AED21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329-510A-4645-A1DC-B21A6B07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5B01F-357B-4F67-AF48-84BAE70D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6CB9F-84D8-406F-A3E3-156D481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85DAB-0BDA-4037-A9A4-8F12DC4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361E8-8FE3-41E8-9629-1AB2F3E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9DEA8-B1C5-415D-80B9-3199587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395A8-C638-45BE-AA50-B99D414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AB040-31EE-437F-9339-65F4B70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7DCC4-F048-4359-B5F9-F2619EB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1238E-A35B-4C75-AECF-4737822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25D4F-B2AE-4EA0-86E5-C1AD06B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D72F-9C85-45B0-B2DF-9E05AAEC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6A296-52CC-4875-B9EE-5A0A0DA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F9E8-C9E7-4EC6-B073-275A23FA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2D0B4-9129-458D-AE78-EC72E836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4715D-2E95-4B8F-A388-67F3E3F3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208C1-BD8D-47D3-94EA-283628F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312E-D7EB-4C23-AB59-B21E6D28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0BBBA-BE56-4A82-A232-4A670DF3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7B4F9-AE71-454D-ACD8-C064F7E9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E514A-6500-4E28-943A-40ACAE4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024B9-5E3B-4F08-B1B7-DDD3AB5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FA4-F9B5-4AC7-AEB5-E102267B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0ACBA-CE81-4F9A-A710-96DAE9C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9A2E-AB2C-466C-9A0C-A5E238C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C3C58-F3DD-4C47-A096-1B6460B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AF32E-B6AC-4888-BC0E-C1E18AA3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D6130-D2D9-4910-8662-80EAD8A7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3D2C1-5DBC-467E-A03A-3FD2DAED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855AE-D01D-477B-B841-182FFE2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C0F5-2D66-46F6-95AB-50815858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FCE01-93FA-4DC8-ACF8-37ED34B9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34F54-AF83-44C3-A640-56A0EDA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56D-68BF-44E5-AA45-491D3BA8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F264B-E348-4C2D-8E8F-023A32F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C7A4E-A4B6-46DE-96D9-709C518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48293-C0CA-4006-9D34-BB22D823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80DAF-5DBF-459C-9D5D-DA154CC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4FBE9-8FD2-4BE6-B6F8-E849111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0156B-6355-4553-B4F0-7816B22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3C376-BF95-45A7-8C7E-93B0FB18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2728-CE5F-4757-B6B2-00473E28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C4F06-93C0-422D-B799-09F8745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C06B7-1F65-4EBB-88C4-9B3A635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18E-0CA2-4050-965F-70092C3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968E9-EB23-4BB4-8C4D-C4D70EFF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0FF8D-AEAC-4159-B279-19C5721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F6704-69E8-463A-838B-04220710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79FB1-7BAE-4366-8714-D56BCE8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01BC1-B85D-4B37-8D0E-6BCE9174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A46BD-D54F-4472-A960-A7F3243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1FD6F-8A2F-4404-9F60-EAAF8759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A6E8A-3C6C-47E8-8DDF-702CFB7A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A1B98-8398-4490-BD58-4A98983F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2AE22-421F-478B-8FC3-41806B07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E4FE-F66C-48D6-A6B7-65B62815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01CFA-478C-4AF3-AB3C-FB684E39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6AF45-54A0-4421-B1AA-F272DFD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6B4BC-6E54-4146-ABC6-83BEA4D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25913-06C7-4E03-8046-C375272D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52314-6CAB-40F0-A9EB-0DF0376D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6A3D3-D3EB-42F4-9C9A-BF2753C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3C05A-49FA-4877-8F32-EE572AF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A7945-3089-497B-9149-8119E9C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FFD59-A66D-4500-8885-AB6AAC6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52A91-30A0-4472-AAED-AF6DDF4B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9C9-2C11-4756-BF89-6467508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21920-DEB7-421B-AAD5-71E62807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48A0D-3510-4ECE-A286-175A2F43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FDAE2-2195-4C76-B5E7-89A7420B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6FE5A-D69A-4F28-A714-8BEFE116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D9D0D-4DAC-40A4-998E-E1FA6D5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8A9C7-D86A-41F7-A5DB-994A68F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E0871-DA73-44F8-BAB6-A3FED86C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4ED06-CB49-4DE8-BD31-E64A2F2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D5972-F29B-4DBB-96F5-1E4C3AD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7A0DD-CF42-4281-83E2-4D85965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C2C-7DA1-4C43-868F-E1DADEE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15438-12DA-4D55-BA07-3F7D60E0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AE7B2-FE86-4710-AF9A-40945C8C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36016-883E-4B79-88CA-598FEE6C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FED6E-CA6C-4210-85B7-C5D5DED3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60B4D-887A-47E0-B06A-CE087001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A93DF-5DF8-484F-9F37-70065009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548A0-7281-446D-A5DC-543E1A3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A18B7-B51C-4FAA-9B10-3A89AEC3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970FB-6070-4173-945A-BB843C6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40E91-FB1B-42C6-B62B-D4D3548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49F-4E23-4BBD-B2F9-7169DE5B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31E-E16D-4CE8-8ED5-A2A27171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A7165-3A97-4A21-B0D4-9E10540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74C08-A39D-4671-AB5F-FFECA59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24AB4-32BA-492C-8F7E-BB03FD5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D2442-6D0F-46FE-AC1A-55CB920A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1A72C-67EF-486C-B41D-B7D90D94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19C7F-FCBF-4288-B8CF-64A48A1E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84129-F366-4491-9B1F-8F1A243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71E44-81E6-4B0A-9CF5-9439214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E633B-43DA-42D2-97D6-A72935C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22BE2-5147-49C5-8552-95C529C8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27D1-DCF9-40F2-A904-2067415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F1ED4-A090-4FE1-BA7B-354A7B5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B2406-3701-40D6-8722-F0195DB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C5144-AECC-4762-832C-41DBF0C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93F72-C939-4092-B0ED-9A66E28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AC7A6-5F75-4773-8EF0-30CD59A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D09E0-60C8-4CC4-84B4-C61DF6E2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029F6-2863-4999-9CEC-65490F90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80B43-461C-40D8-B17E-B6607CA9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66E51-1016-43EF-82A9-CAAA861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0173E-5B88-47C7-90BA-A6A5D03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142F-12D7-42FD-82C4-AD82A7B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04838-E697-481A-A6E9-B6A54600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AACC3-46F9-4D68-879C-3D5F127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D0903-03C3-4333-8F28-1A0D1485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3550D-A6BA-4DD1-AEDA-4237FB7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B708E-4799-46ED-B574-B43E667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44A2E-7206-4EDB-9D6F-D74DD3A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57828-A48A-4514-B9D8-563C073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FA50E-2BCD-446F-9EC7-757EA5A8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61384-62D3-4153-97A0-30A25848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CB2BE-57C9-4E87-A258-96B0BE4D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E33-9EC1-4FB5-AA9B-07F4FBA7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2C808-71FE-4881-80F1-E6F114D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F7942-426A-4F8E-A3D1-703FC00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B1122-3CEB-4065-83F7-5418574D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B75F8-7953-4E3A-9988-9169F67E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5434C-F88B-4D91-9387-92AE85B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366B5-E7FE-4AA4-B9CB-4BD198A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7B5D8-7C0F-41C9-AFD2-60F6A8E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40BA4-77C5-445E-9A07-56E3DE7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9C8DE-7C5A-4DDD-B65E-C81099F3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E0F80-71E8-4E9F-810B-8D6EA432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FC6-ECF0-4AFA-9B9F-7395D0E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C3800-13D5-4046-B964-0288EDF5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82027-2511-4877-9380-57D625C0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87E9A-B954-4F8F-8AC6-9393A0F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14A29-65DF-4BBF-B4EA-893294B2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651ED-4EA9-433D-A3F7-08BCC18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CA172-0BA4-4ACF-88E5-EB4E406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FA488-8A41-4878-9D9C-3678B67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69481-88AC-4224-923E-6D773162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42D11-6365-437A-84A7-DA69594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C18BC-4B3E-454E-8761-26BE3A8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5669-A9AB-49F4-9206-5D6090A6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30131-7795-49D0-9400-51DE19A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7ABB6-F991-42C6-9F1C-EDE0000F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4FA95-D277-414D-8361-D077B035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9FBB3-D0C2-4ABD-9780-050FCA74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700106-36C1-4B50-8B0C-0497B6CA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A3856-4E8D-40FA-B934-EC9CC03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CA1842-5985-4AE3-87A9-5849B6AC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02521-93D6-4355-A620-1A04C19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1064F-2F4A-408B-8F49-9C3BE63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0190F-C596-47F9-824E-123C4CA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E131-60F3-431D-83B6-8B36B66E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C629B-394E-433F-8704-B2489DA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4EC74-3E48-4BF8-AFD4-8E1D11A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D2A75-688F-4D59-887D-6A02796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09171-A67E-491E-972F-7A8E7648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AC9712-02FC-4896-82FD-5E3A5A4C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6A9CC-BD35-4F71-83B6-A1CB8554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35138-D4D7-4E64-8664-8012A8E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093E0-9D96-4654-A0BB-BA861EDD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DC9C7-1E6B-4D21-89B7-F2BC07B5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1E809-8A93-4ABB-84B2-23F33BEE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515F-E219-4B86-998A-5F1B02E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40ADF6-9C90-458E-82E7-A560008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048F8-C025-47CB-A102-7132CC81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58758-5EDB-417B-97AE-63BC7AB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49891-D852-4908-A713-7471477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04D6E-409E-4CA6-B715-FB551129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79C21-DE1A-4069-B96E-3D4F3A8E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3CC049-2C4C-40B8-9DDF-8F80B421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342C4F-24DC-4E8D-94D8-A9324ADF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ADB41-EA78-49CA-A63F-903FADD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5B1EC2-0C8A-4E03-BA0D-FF3614C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BD21-2833-4904-8B5B-518E8CF7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F109A0-AD5C-404B-9AAA-EAA0C9D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29F902-9B19-4C78-A57B-7A024ED7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8D0CE-B7B9-41C2-9CC6-EAC33D0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86216-D9F1-4F48-80F0-6BA7617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3BE3F1-A79A-4E6D-9300-4D78B70B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98F7F-5A45-4375-818A-4FF1322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27530-FD95-49B7-A724-68D382A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F18040-8A02-401E-B4A3-BBD7EE95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138D21-F6BE-44A4-9B9D-FA148C77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61661-EBCA-4C51-8EEC-9BD4681B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9AB3-C03A-425E-B636-48483471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8F787-8921-4BEA-893C-3AA9B14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B58FAB-B2C3-4E67-9C16-99AA508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79E6C3-9132-4757-B5AC-A4C60ED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98E0FE-458E-46E6-8C32-98A5A14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3B9AF-7A05-4B39-B6E0-1868ECA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260ABF-FB56-4FFF-A2F6-079CEF7A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92266E-FBB7-4703-B5F9-4599A7C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50AFDA-A667-4BC3-8F23-DE1C5EF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D867CB-7122-401C-B9D8-4F13AE9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FC34C-5238-4B6E-A8F4-7D968BE8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6A5-670D-4D68-872B-97BC37F5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E04D-0F7D-4CE6-82CA-4ED7E059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4D7CEA-6EF8-4DDC-B7A3-46829F6D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FDBF43-7D3D-464A-B1ED-1C1022F0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13CA79-2839-4E46-B42D-9B9D219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EB0BCA-BB3D-4593-8847-AC859753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F6781F-9A21-40F2-B495-531CEF6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958C91-5942-463F-A75D-8EB7D59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406C4E-C7FF-43CA-9514-AC032A9C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EDAD4C-D576-4928-B9CE-450FBBF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BB4782-E0C8-4523-93A8-7088635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1B50E-13AF-476E-8CD2-2E5DDBF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6D2D-CA6F-49E0-B1C2-28874B3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3CFCCB-6484-4648-970E-115152C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19222C-A7B7-4AE8-8FF1-89E03BC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6EEA3D-E6C0-49ED-937D-45A8623F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25C8F0-BA5A-4572-A814-4A49BEA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3929B-23BA-4A23-9721-5C2A364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CA7B4-1872-4482-B43A-6997F5C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D95BF7-5D44-4AB0-ACFF-4AF28E4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34A291-75FB-4B22-8D3E-4542C03C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9803A-E9DE-4402-9B92-688AB9CA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6A5059-514A-4F22-B80B-34FFF4E2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B98C-8096-44BB-BDE6-C31E897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B7BF88-8B03-4C07-A8FB-0CDDBA1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50C98-5B46-4343-BF32-5068181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BD92FF-6F3F-47F3-BEBB-EF15B420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EB162F-1ED8-4342-9269-06C84C28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060330-E3C7-41A5-92D0-C6EE95DE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1B34DE-FBB4-4249-9D53-BB40D897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A7AE3C-EF2B-4D68-A11C-00578CB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869003-CCA4-495A-88DC-58100B3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73C142-BD68-4A3F-95A1-36D4D04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A02C83-CC94-4C48-90F9-C1FC017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D14F-FD8E-4BD7-BEFA-8BA2812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C4A676-9E68-4ADE-A68E-10BB241C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C4658B-7F98-4BA1-AA8B-80973AF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C7056B-2D69-454E-B000-D0AEB3D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B4B212-CC32-4CC6-A224-0B2B436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C5D3D4-164D-42A0-AFE4-52B6C2F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49937F-2900-4581-9978-34172F86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C8077D-CA59-4974-A786-8109B98C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A7522F-6D97-439A-B6E0-0F5DA669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14F300-6117-40D3-91F6-3232C3B7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E61E8D-6DF7-401A-889F-3E780CC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4F18-86D4-4B42-A9BB-1545277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663C98-C24A-4390-BFCF-E81690D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15BAF3-F70C-4EEC-AEEC-200EEB31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E9C46E-5FF2-486C-B92C-DD581AAD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85AF5A-E1D8-4C13-BECE-2FFBB9F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6DE584-9762-45E9-9259-18B2050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0A586C-99E8-47FA-A218-446A97A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093108-B5BE-4FBD-BECE-9228129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92ECED-349E-4444-8157-8D72C69B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C0C8E-AE70-4259-B1EB-D7544EA1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572A76-A40D-4555-96D3-7C4B4812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5406-97F7-40C4-97F8-01F31CD7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2AFA17-6ABF-40ED-819C-11DCA8A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0593E8-5B47-45E4-BAF7-5625797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0ECD26-97B1-4526-9C29-3D8B0BA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131EE3-3AA3-48AC-9C16-11753DC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775049-A30C-4C29-8F27-3F550C79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6A9BCE-C0FB-43B0-8907-DB01C44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3C5CD1-A417-4A04-A6EA-0B8033EA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911E2E-0C46-4CAD-956B-926A5EFB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2C3810-BEA1-44B0-904D-CD52ACA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A0375-72CB-4AFD-AAD7-2CDDD44D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7993-EA20-4D32-AAE3-634ABBC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409BE-8EC6-4AF2-9A1E-FB46E814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191F15-4C33-45E2-A11C-5F2A5F0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B9EF9-00B4-4574-9950-28C301C0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FA6F2F-3977-41E9-8C63-FCE5F2EA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75E345-2308-43B8-AE79-A31691F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13D60D-236F-4859-B4D6-113FE07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E04D5D-F335-49DE-BD48-E72BCFBB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7B6210-ED0D-499A-84D2-2DEECEF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5FFA0F-42CA-4C06-BBF7-2E7FF47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ACD554-3E75-4719-8590-30E3743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678E-FB71-4B81-BC93-1B8759FA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953DED-6402-40E2-A6B7-118134F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598F3F-59D2-44F9-9CB5-3F447C59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40040F-4AA4-4DCF-9324-ACDEAB5F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144D-44E6-4CF7-8C3F-EF6C5950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2404-5F26-4D01-9A3D-A1B7F5A3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4FD-C8E1-4B7B-BBCF-2959B8A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103B-3007-4339-881B-5EEC8C43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17BD-9749-444A-B161-6F47EDD0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9325-61BB-413D-A884-2A910EA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75FB-DB88-4BA3-97A8-C07CF74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E472-44BD-420B-A9CD-55CE18C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E6AA-BF66-43E6-AD20-BA61FA0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BF46-D0A4-4665-AEC5-567AADEB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6852-0AE8-4F73-8176-6F0AB75E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13A1-C723-4E75-912B-A394FCC8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8430-3496-4617-B463-E37AF5F9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A19-AAC8-40CF-AD02-0A8E0D68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532D-71C1-47F3-97A6-59FA094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39DDA-ED38-4295-B0A3-0FCEB55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1818-C2BB-4142-985D-8C6B5604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8F30-CFFE-425D-8B44-89BF5A1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7BBC-ACAD-4860-A046-E06FA66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DC46-DE7B-4491-944F-650C9E4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1564-0B66-483F-AF3C-C7DBEBF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93B8-A881-47D1-962C-585F33E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6000-BFCF-4157-B0A0-6580BD1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F6A9-F75F-4FA9-BC1F-A61A6D7D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5A1-75E2-4CCA-B217-F447474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116A-0DC0-4943-B600-1818A881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1E60-33B8-4780-AECC-4B7D05C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7CDD-EA39-4A1A-835E-9FA7E5D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8244-89F8-44B9-B214-65DF0083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E39F-73D6-42EE-B9AA-75D7D4E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FCC7-519C-4CAC-A5E1-88B603A9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CEBA-7B7F-4E14-822D-FBA3EB6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8761-DC60-4A37-BAF0-D587897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05A2-A677-4E25-B98F-9354D3B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150F-904F-4DA3-82EE-ABD0DC9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521-A867-4755-A0F4-8854E5EE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9705A-2811-4CAB-98EC-945ED114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D5C62-98AE-41A5-807E-25DAC9E1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91FD-6609-4E19-B133-C1DAC72C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3208-8FAE-46D3-9CC9-623E623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A68C-16A7-465E-98E1-1988454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45EA-F5A8-470C-98E1-D478B4C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9582-E9BE-4D5A-B06A-D0A31CC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F5C8-614F-47BA-A850-1C47090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E99D-75C9-4FD6-84C5-412C2B5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CC52-1594-46E0-B66B-DF0626A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05F-7CC4-4A3D-AF2E-B003980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43B5-B9AE-4B3F-915D-732AB6D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341B-F4BD-4A32-AA81-B15C30B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D302-5098-42C9-81A5-A58234B1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FBD8-2412-42CA-AA6D-DFE2195D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5E74-B253-4E21-815E-ED3F71A7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B8631-B630-416A-BF80-6929910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1275-A3EA-4B76-A688-ECED73C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C8579-CB8D-4113-9146-BE561539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7D52C-0DCF-44AB-97D7-A75C4FDC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5026-6D35-4B00-B6ED-11753CC1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17C-CEE2-4980-A004-43BF512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3143-CEE6-493F-A807-4B4F2F0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5383-8C87-4FA5-AA34-0FC3139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E88B8-9E08-4C37-8609-D875BB0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1D3F2-25D3-4996-8067-F667E14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FBB77-441B-4ADE-8E5E-CA2F07E0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089A-DF56-4160-963D-6CB9B4D6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B35B3-25AF-40DC-A989-7A220D2F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DDC19-D0BA-4A0D-8752-B3D01539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A770-CBB5-43AA-A143-2DE0DC64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C9F99-A9F7-4F04-8964-3C4BE47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5409-BE00-4238-813D-82B2F0131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47EE-B4FA-4F26-9B20-3499B2151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D7C2-456D-4FD8-B805-2C2C921D73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2FF-2968-4AFF-9CB4-73D407BB1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B1B-4D56-4165-AA50-F1BFC42437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835-3CEA-4B54-BE38-0BDEC4FE3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5333-6619-457D-BAFB-8ADBF212AC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3A1-A32B-4AF0-B43C-12364B032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F56E-5CB7-4F86-BEA7-D91F20A3E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58F-B288-49B0-974F-91EE50A02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5F3-FAF9-405C-8923-52DCA2DE7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B30-0E88-4AA4-AEE0-B0E868573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04E-063A-457B-98B7-4BC5E756A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6A1C-F9A9-42EE-9910-17E8C353F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D9F3-1ED3-4626-AB79-148A0A4D1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C5A4-E64F-4862-BD97-B5BFEAECC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CAC-0B9E-4EE8-BDFB-5D794991C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A460-6842-4001-BBF0-962A291E8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5E35-13FD-425E-AA8D-EA09AEFD4E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637F-9CA0-45DB-9698-7DA70CB21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9BC9-C467-4F73-8229-335247FE1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6C3-1063-4E9F-81B5-CD6BEE34F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4E7-6CC2-4479-B93E-1C430939B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465-A24A-426C-8525-6DEC820C10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595E-3EAB-4AE9-8C49-B2A5D8104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C28-CEC2-4A8C-A90F-B73EE632B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E33-E129-45F5-AE77-5CB8C2581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F58-F565-4B44-969F-F97809991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573-43F5-4F6F-AC2B-CAD4A1C6F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A340-6EF4-4C56-82C1-BF4241729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C21B-523C-45BC-B25C-C589C1BFDD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BA77-C1BE-4810-A1F8-063660E86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BF93-8FE7-4B15-9B47-70B31605F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F54-EAED-46E8-A368-E717A991CF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4C59-1727-4A4B-87E3-162ABCE13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B98-8DC4-4321-BB48-ABAFD4D72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B9D-067E-420C-91DA-5F09584E53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0D0-146E-49FB-9371-C09F91CF6C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68C-3C18-46E8-A47B-97869EF12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101-85BC-4E1F-8AC2-91508FBB4E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AE63-B76F-4B86-80A4-4DF4223D7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4D3-56BE-4A4D-AC77-A033CD31D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DFC-A6D1-4979-AF88-F8EE6EE01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BBB-4325-45BE-8873-F2AF08506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44E9-E2B5-4608-AF5D-646E92DE0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30B-AF50-4B6E-92A8-672EB803E9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B7D3-BCD4-48AA-AC68-091F232DE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F19A-1410-45AD-AFF6-EA06DEFD11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1DF0-64F0-4F5B-9491-BEA08C3A76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205-A72B-49D9-AE28-1BD3B8971E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28920" y="3143160"/>
            <a:ext cx="6086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6737" descr=""/>
          <p:cNvPicPr/>
          <p:nvPr/>
        </p:nvPicPr>
        <p:blipFill>
          <a:blip r:embed="rId1"/>
          <a:stretch/>
        </p:blipFill>
        <p:spPr>
          <a:xfrm>
            <a:off x="571680" y="1390680"/>
            <a:ext cx="8001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5713" descr=""/>
          <p:cNvPicPr/>
          <p:nvPr/>
        </p:nvPicPr>
        <p:blipFill>
          <a:blip r:embed="rId1"/>
          <a:stretch/>
        </p:blipFill>
        <p:spPr>
          <a:xfrm>
            <a:off x="576360" y="1461960"/>
            <a:ext cx="7991280" cy="393408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15714"/>
          <p:cNvSpPr/>
          <p:nvPr/>
        </p:nvSpPr>
        <p:spPr>
          <a:xfrm>
            <a:off x="969840" y="2644920"/>
            <a:ext cx="7929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5715"/>
          <p:cNvSpPr/>
          <p:nvPr/>
        </p:nvSpPr>
        <p:spPr>
          <a:xfrm>
            <a:off x="941400" y="318780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5716"/>
          <p:cNvSpPr/>
          <p:nvPr/>
        </p:nvSpPr>
        <p:spPr>
          <a:xfrm>
            <a:off x="836640" y="379728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5717"/>
          <p:cNvSpPr/>
          <p:nvPr/>
        </p:nvSpPr>
        <p:spPr>
          <a:xfrm>
            <a:off x="779400" y="4368960"/>
            <a:ext cx="7929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5718"/>
          <p:cNvSpPr/>
          <p:nvPr/>
        </p:nvSpPr>
        <p:spPr>
          <a:xfrm>
            <a:off x="684360" y="4930920"/>
            <a:ext cx="79293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4689" descr=""/>
          <p:cNvPicPr/>
          <p:nvPr/>
        </p:nvPicPr>
        <p:blipFill>
          <a:blip r:embed="rId1"/>
          <a:stretch/>
        </p:blipFill>
        <p:spPr>
          <a:xfrm>
            <a:off x="590400" y="1752480"/>
            <a:ext cx="7963200" cy="335304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4690"/>
          <p:cNvSpPr/>
          <p:nvPr/>
        </p:nvSpPr>
        <p:spPr>
          <a:xfrm>
            <a:off x="865080" y="288288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4691"/>
          <p:cNvSpPr/>
          <p:nvPr/>
        </p:nvSpPr>
        <p:spPr>
          <a:xfrm>
            <a:off x="750960" y="353052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4692"/>
          <p:cNvSpPr/>
          <p:nvPr/>
        </p:nvSpPr>
        <p:spPr>
          <a:xfrm>
            <a:off x="789120" y="410220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4693"/>
          <p:cNvSpPr/>
          <p:nvPr/>
        </p:nvSpPr>
        <p:spPr>
          <a:xfrm>
            <a:off x="760320" y="469260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3665" descr=""/>
          <p:cNvPicPr/>
          <p:nvPr/>
        </p:nvPicPr>
        <p:blipFill>
          <a:blip r:embed="rId1"/>
          <a:stretch/>
        </p:blipFill>
        <p:spPr>
          <a:xfrm>
            <a:off x="547560" y="1433520"/>
            <a:ext cx="7991640" cy="399096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13666"/>
          <p:cNvSpPr/>
          <p:nvPr/>
        </p:nvSpPr>
        <p:spPr>
          <a:xfrm>
            <a:off x="988920" y="262584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3667"/>
          <p:cNvSpPr/>
          <p:nvPr/>
        </p:nvSpPr>
        <p:spPr>
          <a:xfrm>
            <a:off x="789120" y="313992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3668"/>
          <p:cNvSpPr/>
          <p:nvPr/>
        </p:nvSpPr>
        <p:spPr>
          <a:xfrm>
            <a:off x="779400" y="376884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3669"/>
          <p:cNvSpPr/>
          <p:nvPr/>
        </p:nvSpPr>
        <p:spPr>
          <a:xfrm>
            <a:off x="741240" y="4368960"/>
            <a:ext cx="7929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3670"/>
          <p:cNvSpPr/>
          <p:nvPr/>
        </p:nvSpPr>
        <p:spPr>
          <a:xfrm>
            <a:off x="722160" y="491184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12641" descr=""/>
          <p:cNvPicPr/>
          <p:nvPr/>
        </p:nvPicPr>
        <p:blipFill>
          <a:blip r:embed="rId1"/>
          <a:stretch/>
        </p:blipFill>
        <p:spPr>
          <a:xfrm>
            <a:off x="804960" y="1428840"/>
            <a:ext cx="7477200" cy="401940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2642"/>
          <p:cNvSpPr/>
          <p:nvPr/>
        </p:nvSpPr>
        <p:spPr>
          <a:xfrm>
            <a:off x="608040" y="140652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2643"/>
          <p:cNvSpPr/>
          <p:nvPr/>
        </p:nvSpPr>
        <p:spPr>
          <a:xfrm>
            <a:off x="627120" y="200664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2644"/>
          <p:cNvSpPr/>
          <p:nvPr/>
        </p:nvSpPr>
        <p:spPr>
          <a:xfrm>
            <a:off x="665280" y="258768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2645"/>
          <p:cNvSpPr/>
          <p:nvPr/>
        </p:nvSpPr>
        <p:spPr>
          <a:xfrm>
            <a:off x="598320" y="318780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2646"/>
          <p:cNvSpPr/>
          <p:nvPr/>
        </p:nvSpPr>
        <p:spPr>
          <a:xfrm>
            <a:off x="617400" y="374976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2647"/>
          <p:cNvSpPr/>
          <p:nvPr/>
        </p:nvSpPr>
        <p:spPr>
          <a:xfrm>
            <a:off x="598320" y="440676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12648"/>
          <p:cNvSpPr/>
          <p:nvPr/>
        </p:nvSpPr>
        <p:spPr>
          <a:xfrm>
            <a:off x="531720" y="4930920"/>
            <a:ext cx="7929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9960" y="1595520"/>
            <a:ext cx="8344080" cy="36669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6458040" y="2790720"/>
            <a:ext cx="666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1200240" y="3219480"/>
            <a:ext cx="75564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695160" y="3657600"/>
            <a:ext cx="2887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3343320" y="4076640"/>
            <a:ext cx="1138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7000920" y="4505400"/>
            <a:ext cx="1719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666720" y="4933800"/>
            <a:ext cx="1719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4457880" y="4924440"/>
            <a:ext cx="40017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3905" descr=""/>
          <p:cNvPicPr/>
          <p:nvPr/>
        </p:nvPicPr>
        <p:blipFill>
          <a:blip r:embed="rId1"/>
          <a:stretch/>
        </p:blipFill>
        <p:spPr>
          <a:xfrm>
            <a:off x="395280" y="1562040"/>
            <a:ext cx="8353440" cy="373392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3906"/>
          <p:cNvSpPr/>
          <p:nvPr/>
        </p:nvSpPr>
        <p:spPr>
          <a:xfrm>
            <a:off x="2876400" y="1981080"/>
            <a:ext cx="3141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07"/>
          <p:cNvSpPr/>
          <p:nvPr/>
        </p:nvSpPr>
        <p:spPr>
          <a:xfrm>
            <a:off x="7182000" y="1981080"/>
            <a:ext cx="15825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8"/>
          <p:cNvSpPr/>
          <p:nvPr/>
        </p:nvSpPr>
        <p:spPr>
          <a:xfrm>
            <a:off x="495360" y="2409840"/>
            <a:ext cx="666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09"/>
          <p:cNvSpPr/>
          <p:nvPr/>
        </p:nvSpPr>
        <p:spPr>
          <a:xfrm>
            <a:off x="2943360" y="2400480"/>
            <a:ext cx="16700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10"/>
          <p:cNvSpPr/>
          <p:nvPr/>
        </p:nvSpPr>
        <p:spPr>
          <a:xfrm>
            <a:off x="5877000" y="2400480"/>
            <a:ext cx="27176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11"/>
          <p:cNvSpPr/>
          <p:nvPr/>
        </p:nvSpPr>
        <p:spPr>
          <a:xfrm>
            <a:off x="5905440" y="3267000"/>
            <a:ext cx="13035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12"/>
          <p:cNvSpPr/>
          <p:nvPr/>
        </p:nvSpPr>
        <p:spPr>
          <a:xfrm>
            <a:off x="7848720" y="3247920"/>
            <a:ext cx="10652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3"/>
          <p:cNvSpPr/>
          <p:nvPr/>
        </p:nvSpPr>
        <p:spPr>
          <a:xfrm>
            <a:off x="457200" y="3695760"/>
            <a:ext cx="666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4"/>
          <p:cNvSpPr/>
          <p:nvPr/>
        </p:nvSpPr>
        <p:spPr>
          <a:xfrm>
            <a:off x="2324160" y="3686040"/>
            <a:ext cx="2832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5"/>
          <p:cNvSpPr/>
          <p:nvPr/>
        </p:nvSpPr>
        <p:spPr>
          <a:xfrm>
            <a:off x="3705120" y="4114800"/>
            <a:ext cx="2832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16"/>
          <p:cNvSpPr/>
          <p:nvPr/>
        </p:nvSpPr>
        <p:spPr>
          <a:xfrm>
            <a:off x="8267760" y="4114800"/>
            <a:ext cx="666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17"/>
          <p:cNvSpPr/>
          <p:nvPr/>
        </p:nvSpPr>
        <p:spPr>
          <a:xfrm>
            <a:off x="638280" y="4543560"/>
            <a:ext cx="264960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3918"/>
          <p:cNvSpPr/>
          <p:nvPr/>
        </p:nvSpPr>
        <p:spPr>
          <a:xfrm>
            <a:off x="4476600" y="4533840"/>
            <a:ext cx="16336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3919"/>
          <p:cNvSpPr/>
          <p:nvPr/>
        </p:nvSpPr>
        <p:spPr>
          <a:xfrm>
            <a:off x="6819840" y="4543560"/>
            <a:ext cx="163368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22881" descr=""/>
          <p:cNvPicPr/>
          <p:nvPr/>
        </p:nvPicPr>
        <p:blipFill>
          <a:blip r:embed="rId1"/>
          <a:stretch/>
        </p:blipFill>
        <p:spPr>
          <a:xfrm>
            <a:off x="371520" y="909720"/>
            <a:ext cx="8324640" cy="511488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2882"/>
          <p:cNvSpPr/>
          <p:nvPr/>
        </p:nvSpPr>
        <p:spPr>
          <a:xfrm>
            <a:off x="8151840" y="2701800"/>
            <a:ext cx="3459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83"/>
          <p:cNvSpPr/>
          <p:nvPr/>
        </p:nvSpPr>
        <p:spPr>
          <a:xfrm>
            <a:off x="8142120" y="4816440"/>
            <a:ext cx="3463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21857" descr=""/>
          <p:cNvPicPr/>
          <p:nvPr/>
        </p:nvPicPr>
        <p:blipFill>
          <a:blip r:embed="rId1"/>
          <a:stretch/>
        </p:blipFill>
        <p:spPr>
          <a:xfrm>
            <a:off x="376200" y="1009800"/>
            <a:ext cx="8391600" cy="295272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121858" descr=""/>
          <p:cNvPicPr/>
          <p:nvPr/>
        </p:nvPicPr>
        <p:blipFill>
          <a:blip r:embed="rId2"/>
          <a:stretch/>
        </p:blipFill>
        <p:spPr>
          <a:xfrm>
            <a:off x="345960" y="4235400"/>
            <a:ext cx="8353440" cy="19242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21859"/>
          <p:cNvSpPr/>
          <p:nvPr/>
        </p:nvSpPr>
        <p:spPr>
          <a:xfrm>
            <a:off x="5256360" y="1911240"/>
            <a:ext cx="3459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1860"/>
          <p:cNvSpPr/>
          <p:nvPr/>
        </p:nvSpPr>
        <p:spPr>
          <a:xfrm>
            <a:off x="8132760" y="4549680"/>
            <a:ext cx="3459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0833" descr=""/>
          <p:cNvPicPr/>
          <p:nvPr/>
        </p:nvPicPr>
        <p:blipFill>
          <a:blip r:embed="rId1"/>
          <a:stretch/>
        </p:blipFill>
        <p:spPr>
          <a:xfrm>
            <a:off x="380880" y="720720"/>
            <a:ext cx="8329680" cy="59612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0834"/>
          <p:cNvSpPr/>
          <p:nvPr/>
        </p:nvSpPr>
        <p:spPr>
          <a:xfrm>
            <a:off x="8161200" y="2368440"/>
            <a:ext cx="3463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0835"/>
          <p:cNvSpPr/>
          <p:nvPr/>
        </p:nvSpPr>
        <p:spPr>
          <a:xfrm>
            <a:off x="8113680" y="4778280"/>
            <a:ext cx="3459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9809" descr=""/>
          <p:cNvPicPr/>
          <p:nvPr/>
        </p:nvPicPr>
        <p:blipFill>
          <a:blip r:embed="rId1"/>
          <a:stretch/>
        </p:blipFill>
        <p:spPr>
          <a:xfrm>
            <a:off x="361800" y="723960"/>
            <a:ext cx="8344080" cy="310500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119811" descr=""/>
          <p:cNvPicPr/>
          <p:nvPr/>
        </p:nvPicPr>
        <p:blipFill>
          <a:blip r:embed="rId2"/>
          <a:stretch/>
        </p:blipFill>
        <p:spPr>
          <a:xfrm>
            <a:off x="689040" y="5572080"/>
            <a:ext cx="8010360" cy="106668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119812" descr=""/>
          <p:cNvPicPr/>
          <p:nvPr/>
        </p:nvPicPr>
        <p:blipFill>
          <a:blip r:embed="rId3"/>
          <a:stretch/>
        </p:blipFill>
        <p:spPr>
          <a:xfrm>
            <a:off x="6853320" y="3535200"/>
            <a:ext cx="1819080" cy="22845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9813"/>
          <p:cNvSpPr/>
          <p:nvPr/>
        </p:nvSpPr>
        <p:spPr>
          <a:xfrm>
            <a:off x="960480" y="5911920"/>
            <a:ext cx="79293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9814"/>
          <p:cNvSpPr/>
          <p:nvPr/>
        </p:nvSpPr>
        <p:spPr>
          <a:xfrm>
            <a:off x="922320" y="6359400"/>
            <a:ext cx="79297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8785" descr=""/>
          <p:cNvPicPr/>
          <p:nvPr/>
        </p:nvPicPr>
        <p:blipFill>
          <a:blip r:embed="rId1"/>
          <a:stretch/>
        </p:blipFill>
        <p:spPr>
          <a:xfrm>
            <a:off x="628560" y="866880"/>
            <a:ext cx="7562880" cy="561960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8786"/>
          <p:cNvSpPr/>
          <p:nvPr/>
        </p:nvSpPr>
        <p:spPr>
          <a:xfrm>
            <a:off x="846000" y="199692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8787"/>
          <p:cNvSpPr/>
          <p:nvPr/>
        </p:nvSpPr>
        <p:spPr>
          <a:xfrm>
            <a:off x="950760" y="259704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8788"/>
          <p:cNvSpPr/>
          <p:nvPr/>
        </p:nvSpPr>
        <p:spPr>
          <a:xfrm>
            <a:off x="922320" y="313992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8789"/>
          <p:cNvSpPr/>
          <p:nvPr/>
        </p:nvSpPr>
        <p:spPr>
          <a:xfrm>
            <a:off x="932040" y="372096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8790"/>
          <p:cNvSpPr/>
          <p:nvPr/>
        </p:nvSpPr>
        <p:spPr>
          <a:xfrm>
            <a:off x="979560" y="428292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8791"/>
          <p:cNvSpPr/>
          <p:nvPr/>
        </p:nvSpPr>
        <p:spPr>
          <a:xfrm>
            <a:off x="979560" y="491184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8792"/>
          <p:cNvSpPr/>
          <p:nvPr/>
        </p:nvSpPr>
        <p:spPr>
          <a:xfrm>
            <a:off x="950760" y="547380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8793"/>
          <p:cNvSpPr/>
          <p:nvPr/>
        </p:nvSpPr>
        <p:spPr>
          <a:xfrm>
            <a:off x="998640" y="605484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7761" descr=""/>
          <p:cNvPicPr/>
          <p:nvPr/>
        </p:nvPicPr>
        <p:blipFill>
          <a:blip r:embed="rId1"/>
          <a:stretch/>
        </p:blipFill>
        <p:spPr>
          <a:xfrm>
            <a:off x="785880" y="1752480"/>
            <a:ext cx="7572240" cy="335304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7762"/>
          <p:cNvSpPr/>
          <p:nvPr/>
        </p:nvSpPr>
        <p:spPr>
          <a:xfrm>
            <a:off x="1128600" y="292428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7763"/>
          <p:cNvSpPr/>
          <p:nvPr/>
        </p:nvSpPr>
        <p:spPr>
          <a:xfrm>
            <a:off x="988920" y="3483000"/>
            <a:ext cx="7929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7764"/>
          <p:cNvSpPr/>
          <p:nvPr/>
        </p:nvSpPr>
        <p:spPr>
          <a:xfrm>
            <a:off x="893880" y="4064040"/>
            <a:ext cx="7929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7765"/>
          <p:cNvSpPr/>
          <p:nvPr/>
        </p:nvSpPr>
        <p:spPr>
          <a:xfrm>
            <a:off x="817560" y="4702320"/>
            <a:ext cx="7929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1:18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